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6538-6842-4404-85A4-EB6236AEA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9A76-479F-4508-840F-D51D5854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669-561F-40AF-8F85-943A4191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52E-605D-48C3-A4F2-4978341F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E75-680C-4307-B679-A71F92BF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C47-0E7C-4788-8220-8A14B68F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382-A130-401E-9592-F8FFA748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433-5514-41BE-8249-14300545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3DF-3CBA-47EA-9B9A-292ABC3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D35-D06D-42E5-BC20-157E2E4E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673-650C-453D-9C56-F81379C7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4EB-283F-48F1-AF88-ADDF24BA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544-C39E-4D65-86A3-558B6B2D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34A-A4CB-41C4-AC05-009FE2F1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E1A8-1A3F-46EC-880A-9FC68CA6B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289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290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4T18:35:24Z</dcterms:modified>
  <cp:revision>55</cp:revision>
  <dc:subject/>
  <dc:title>Slide 1</dc:title>
</cp:coreProperties>
</file>