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892A-DD52-4297-83ED-16EA8338F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344D6-CB54-418E-BD75-20801FDFC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B2C9-A03B-48D6-95DD-E8998784F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3012-3A95-421B-BEBC-0223468CC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BE3C-63C6-4249-8A28-BD35A4B4D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FBD6-7B60-4DD0-83A1-BB3737A85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060-6998-489C-9DC8-5EC6FAB69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77B3-D323-436D-9465-185086A85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28BF-3F19-49B2-9726-748C4222D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C82-D10B-422E-B19B-25FF5CE43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EBC6-6D75-4437-9248-9EABC2DD9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E3B3C-AADC-4B0D-8586-6B037CBE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E4D3-D20C-47B3-B117-11241207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7CE4-6831-477F-8263-72CF913E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BE1B0-C62D-47B3-8FCC-88ED65DD4B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289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290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4T18:35:24Z</dcterms:modified>
  <cp:revision>55</cp:revision>
  <dc:subject/>
  <dc:title>Slide 1</dc:title>
</cp:coreProperties>
</file>