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5649-34A6-4051-AA2A-8E9EE2DC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7B35-872E-4EF8-BD0A-82D93005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07B-A7FF-43F0-AD75-A4C498CB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49C-E433-45BE-B420-18CE66B5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52F-6EE7-4278-9B16-5B9652D6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98F-EBAF-4CBE-9316-A7397DEC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38D-DF6C-4F45-A0B0-1595AE6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F73-11B7-47E9-9F76-39BBAE1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DC1-1F6A-44B2-BA01-54CAE37B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F03-8A8C-4DB7-8320-E2F658A4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71A-7B5B-4AF9-8182-10F8DD7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8B1-ECD0-4062-A716-BB73309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64F-2898-44B6-8DF8-2C5CE56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05F-7314-46A3-ACC2-E7659C4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2D0-F8EB-4BB3-A549-3753DD6A6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290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4T18:35:24Z</dcterms:modified>
  <cp:revision>55</cp:revision>
  <dc:subject/>
  <dc:title>Slide 1</dc:title>
</cp:coreProperties>
</file>