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5761-CC66-4BD7-BC95-AB21CF97D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5CC33-EAEC-4387-A477-3F011E44C3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4B27-03FC-4548-B01A-96309E50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5985-CDDC-4C04-8C9F-1ECC3258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65F3-9BE2-4AE6-A9B4-77A32D487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4DC-712F-43D2-8ED5-0CC29B43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F36-5E52-42F8-8487-BC31CAF41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67FB-D199-4733-8050-897BF82CA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B97C-4FF2-45D8-9963-0B70BD32B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11EAD-66D5-4BD2-980F-7342BA8AA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3890-DEBB-46A8-9228-05F6B3B0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6A15-2D08-41CD-95F2-1DFD9587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C41A-A01B-414C-8EC9-6BA22DE6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025C-D6DF-4FCF-BCA6-5CB3353F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E6B80-E69D-4E8E-B6E9-56E0C66C4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4:28Z</dcterms:modified>
  <cp:revision>58</cp:revision>
  <dc:subject/>
  <dc:title>Slide 1</dc:title>
</cp:coreProperties>
</file>