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5A7C-8BB5-441D-9E1B-B07DFD71B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47F9-FE35-4978-AF82-79E63257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AB3-7893-4722-9E4F-9B889701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B28-3CD2-4978-B79C-C72D0872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8D5-7525-4311-B0FB-85FE445F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527-31D1-41A9-845C-0084F916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4E4-9904-4631-81A3-12DDE125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C2E-44DF-40A0-9F47-781A0FD7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DB8-BD67-48EA-A1B7-D2C31FEF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313-150D-4AEA-A897-80BF2907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4BA-9A72-470B-8493-CE48C279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E26-1AFE-4F9A-A403-66452744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06E-B0EC-4B32-989C-3A0EFCB3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DAC-59AF-4D10-B165-94A1DA39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4CFA-FBDA-4CB9-A935-18DC6F641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4:28Z</dcterms:modified>
  <cp:revision>58</cp:revision>
  <dc:subject/>
  <dc:title>Slide 1</dc:title>
</cp:coreProperties>
</file>