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A2A4-DC78-4394-9D16-2750FD84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C95-BA59-4F89-94A1-707A3EBA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967-3566-43E5-9674-0861287E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ECD-1D21-48E2-B574-9A50ABA3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AA2-6421-4CA6-BB8C-55898436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F3A-554C-45F9-B741-FC7271D4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297-4415-4BB8-ABD8-698A5014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FA2-392D-499E-8497-D3E4D762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F9B-F107-4A11-97E4-82D1FFD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260-65DE-4DC5-B0F1-68EC3B39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19E-3A4E-4D94-A45D-F3F9E31F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646-BB82-412A-B4D2-98A40800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FCC-E0BF-4F91-98FD-D07B507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AFD-E0E4-401A-A8D5-6951143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6469-979D-43A5-8E92-E0E81337B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4:28Z</dcterms:modified>
  <cp:revision>58</cp:revision>
  <dc:subject/>
  <dc:title>Slide 1</dc:title>
</cp:coreProperties>
</file>