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5B64-F458-4D33-B999-9CF9B0B6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16F9-CB0A-4EE6-B974-33831001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835-0B1D-49A3-84EC-12D2E3F9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D54-0FE7-4452-A506-8C6FEECB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F9B-CE07-47A8-9A6F-20D22807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D0E-44EB-4F7D-BBA3-C1CDF444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779-9BBA-4505-9654-74C67A1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A7D-E8BF-4FDD-B381-6ED67582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26F-AD34-452C-9EE2-D191D72C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A93-1157-46BF-9C88-EF55C0D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334-0745-4073-9CC8-A4FBADC5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6CB-5EA9-42F3-8869-5540A956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CE6-2EC4-463A-A388-0D2D0E84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F7A-C1ED-43EF-9648-539451D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24B3-F393-4041-878A-C6C05771E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4:28Z</dcterms:modified>
  <cp:revision>58</cp:revision>
  <dc:subject/>
  <dc:title>Slide 1</dc:title>
</cp:coreProperties>
</file>